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115B-CDC4-47C8-B3D9-DAE5275A1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5EF3-CABE-460A-B8B0-6D2A5AF6B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EDBB-AE16-45B7-8210-B9B7C4074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D5D8-94BC-4F63-9FE1-77AEC2CBD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97AA-7E18-4171-902A-744F44CC5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7BF2-6C17-4FF4-AF23-8D8155B9F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BF01-BE2F-41AB-B6F4-DDE0CD2D7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DC98-79AB-461C-ADAE-1AAC7DE73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9CD7-91EF-493E-8426-83651AB5F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D558-A4B4-4FF7-9F8A-75DEBC80E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B4F9-E2A8-4ABF-A1AD-032B71F2B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D635-1448-4683-B186-22278DD11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D83C9-E643-420B-BDC5-A9E43F0F799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4"/>
          <p:cNvSpPr/>
          <p:nvPr/>
        </p:nvSpPr>
        <p:spPr>
          <a:xfrm>
            <a:off x="0" y="187200"/>
            <a:ext cx="6858000" cy="88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равила поведения детей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на объектах водного транспорта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Отправившись в поездку на корабле, обязательно внимательно осмотрите корабль для того, чтобы узнать все выходы для спасения и, если случится опасная ситуация – не бегать по коридорам, а сразу идти на выход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ри возникновении чрезвычайной ситуации необходимо точно выполнять указания капитана, его помощников и экипажа судн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Находясь на корабле или в лодке категорически запрещается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чинать самостоятельную высадку или посадку до причала лодки или полной подачи трапа корабля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вигаться вдоль борта судна на причал или подниматься с причала на борт корабля не по специальному трапу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 выходить и находиться на площадке, не имеющей ограждения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амостоятельно заходить одному в служебные помещения и открывать технические помещения, особенно в случаях когда зайти в помещение предлагают малознакомые или незнакомые люд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еревешиваться за борта судн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равила нахождения вблизи водоёмов и на пляже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Не заплывайте за водные ограничители (красные буйки) и приближаться близко к водному транспорту, находящемуся на ходу. Входите в воду медленно, тщательно ощупывая дно. Особенно это важно в местах, где неисследованное дно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Не посещайте реки, озера и другие водоемы без родителе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Детям не разрешается совершать прыжки в воду без присмотра взрослых, в местах не предназначенных для этого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Box 3"/>
          <p:cNvSpPr/>
          <p:nvPr/>
        </p:nvSpPr>
        <p:spPr>
          <a:xfrm>
            <a:off x="0" y="285840"/>
            <a:ext cx="6858000" cy="83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равила поведения дете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на объектах воздушного  транспорта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Дети должны помнить, что аэропорт и самолёт это объекты повышенной опасности. Для безопасности необходимо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 допускать самовольный выход на взлетную полосу, проход в служебные помещения аэропорта и любое передвижение по территории аэропорта без сопровождения взрослых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граничить передвижение без сопровождения взрослых по самолёту.     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Во всех аварийных ситуациях родители и дети должны четко выполнять указания членов экипажа и борт проводников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если ситуация стала тревожной, следует как можно ниже наклонить вперед голову (не расстегивая ремень), обхватить руками колени, ногами  крепко упереться в пол - это самая безопасная поз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сле остановки самолета, необходимо немедленно и без паники покинуть самолет, используя аварийные люки и надувные трап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 следует прыгать на землю с высоты, так как это может повлечь  переломы рук и ног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Если случился пожар в самолете, необходимо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защитить себя от дыма, накинув верхнюю одежду или шапку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лечь на пол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если самолёт стоит на земле, то к выходу пробираться ползком или пригнувшись по проходу и через кресл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сле выхода из горящего самолета как можно быстрее отойти от него и, закрыв голову руками, лечь на землю, чтобы не пострадать при взрыв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3"/>
          <p:cNvSpPr/>
          <p:nvPr/>
        </p:nvSpPr>
        <p:spPr>
          <a:xfrm>
            <a:off x="0" y="0"/>
            <a:ext cx="6858000" cy="88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равила поведения детей на железной дороге и железнодорожном транспорт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Переходить через пути нужно только по мосту или специальным настилам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Не подлезайте под вагоны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Не перелезайте через автосцепки между вагонам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Не заскакивайте в вагон отходящего поезд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Не выходите из вагона до полной остановки поезд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Не играйте на платформах и путях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Не высовывайтесь из окон на ходу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Выходите из вагона только со стороны посадочной платформы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Не ходите на путях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На вокзале дети могут находиться только под наблюдением взрослых, маленьких детей нужно держать за руку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 Не переходите пути перед близко идущим поездом, если расстояние до него менее 400 метров. Поезд не может остановиться сразу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. При движении вдоль железнодорожного пути не подходите ближе 5 метров к крайнему рельсу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. На электрифицированных участках не прикасайтесь к лежащим на земле электропроводам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 Не переходите пути, не убедившись в отсутствии приближающегося поезд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. Не катайтесь по платформе на велосипеде, скейтборде и роликах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. Приближаясь к железной дороге - снимите наушники (в них можно не услышать сигналов поезда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. Никогда не переходите железнодорожные пути в местах стрелочных переводов. Поскользнувшись, можно застрять в тисках стрелки и попасть непосредственно перед идущий поезд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. Опасайтесь края платформы! Не стойте на линии, обозначающей опасность. Оступившись, вы можете упасть на рельсы, под приближающийся поезд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. Если во время поездки в поезде произошло столкновение с другим поездом, ухватитесь за выступы полок или других неподвижных частей вагона или сядьте, прикрыв голову руками во избежание травм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. При переворачивании вагона крепко держитесь руками за неподвижные част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. После того как вагон обретёт устойчивость, осмотритесь, имеются ли ушибы и повреждения на теле. Только после этого, при возможности передвигаться, наметьте пути выхода из купе. Как можно быстрее сообщите о катастрофе на станцию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. В случае возникновения в поезде пожара немедленно сообщите об этом проводнику. Громко и спокойно объявите пассажирам о случившемся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20T13:47:19Z</dcterms:created>
  <dc:creator>КДН</dc:creator>
  <dc:description/>
  <dc:language>en-US</dc:language>
  <cp:lastModifiedBy>КДН</cp:lastModifiedBy>
  <dcterms:modified xsi:type="dcterms:W3CDTF">2015-05-20T13:59:49Z</dcterms:modified>
  <cp:revision>2</cp:revision>
  <dc:subject/>
  <dc:title>Слайд 1</dc:title>
</cp:coreProperties>
</file>