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52B-C106-4042-B2DE-181CDFBE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960-E206-49DD-BD5F-24B3609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F8E-BC59-422A-9E82-FBCD332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16D-9884-4E44-BE0D-BEC30A66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7FF-D945-43CE-B733-8B2E6F26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B1F-04E6-46F5-8F84-5A24A8CB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216-037E-4AD2-8CCA-53152DF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884-CB7F-46D2-ACCC-97A12B85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3AF-D720-4AB1-AA4E-77D830D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EC5-09BD-4AB4-AF4A-28AE7DE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A71-570E-47F9-9AD6-A3CF1A6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E37-ECEE-4C99-B56D-69C0E6F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8DC-721B-4690-B5C6-DAB220186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73B5~1\AppData\Local\Temp\Rar$DI00.048\я ребенок и я имею прав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73B5~1\AppData\Local\Temp\Rar$DI11.345\я ребенок и я имею прав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9:43:25Z</dcterms:created>
  <dc:creator>Пользователь</dc:creator>
  <dc:description/>
  <dc:language>en-US</dc:language>
  <cp:lastModifiedBy>Калаганова</cp:lastModifiedBy>
  <dcterms:modified xsi:type="dcterms:W3CDTF">2015-05-21T08:27:08Z</dcterms:modified>
  <cp:revision>4</cp:revision>
  <dc:subject/>
  <dc:title>Слайд 1</dc:title>
</cp:coreProperties>
</file>