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ED4-22A9-4191-9D49-3899AF4C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373-8449-401C-8B45-3307C2FA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6D7-FFD1-4EA0-9C5E-70C5C1F4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9FB-B380-47FD-9CDF-88CDBE92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4F2-9963-4B1A-9336-1CAC8119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455-24FC-416D-874F-D7C3C1D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D98-67E2-405F-9FE5-46B8609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3F4-F4C5-4DE6-99F0-A8293B63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AC6-8188-42DF-836E-68D4684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7A5-67A5-49F9-AC31-31C54E1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DBA-2CB0-4CEA-8874-147CA6C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7C0-CAD2-444E-8F0F-E327B32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98B-E6F8-4A4D-BEAA-C729EB661D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Город 25000 для РК"/>
          <p:cNvPicPr/>
          <p:nvPr/>
        </p:nvPicPr>
        <p:blipFill>
          <a:blip r:embed="rId1"/>
          <a:srcRect l="5121" t="4025" r="1964" b="10359"/>
          <a:stretch/>
        </p:blipFill>
        <p:spPr>
          <a:xfrm>
            <a:off x="0" y="533520"/>
            <a:ext cx="9144000" cy="5956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428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азмещения объекта в структуре города Нефтеюга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2"/>
          <p:cNvSpPr/>
          <p:nvPr/>
        </p:nvSpPr>
        <p:spPr>
          <a:xfrm>
            <a:off x="0" y="6095880"/>
            <a:ext cx="2514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матриваемый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228600" y="6324480"/>
            <a:ext cx="154080" cy="155520"/>
            <a:chOff x="228600" y="6324480"/>
            <a:chExt cx="154080" cy="155520"/>
          </a:xfrm>
        </p:grpSpPr>
        <p:sp>
          <p:nvSpPr>
            <p:cNvPr id="45" name="Прямоугольник 17"/>
            <p:cNvSpPr/>
            <p:nvPr/>
          </p:nvSpPr>
          <p:spPr>
            <a:xfrm>
              <a:off x="239760" y="6337440"/>
              <a:ext cx="142920" cy="14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Прямоугольник 18"/>
            <p:cNvSpPr/>
            <p:nvPr/>
          </p:nvSpPr>
          <p:spPr>
            <a:xfrm>
              <a:off x="228600" y="6324480"/>
              <a:ext cx="14292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"/>
          <p:cNvGrpSpPr/>
          <p:nvPr/>
        </p:nvGrpSpPr>
        <p:grpSpPr>
          <a:xfrm>
            <a:off x="6507000" y="3200400"/>
            <a:ext cx="182520" cy="191880"/>
            <a:chOff x="6507000" y="3200400"/>
            <a:chExt cx="182520" cy="191880"/>
          </a:xfrm>
        </p:grpSpPr>
        <p:sp>
          <p:nvSpPr>
            <p:cNvPr id="48" name="Прямоугольник 19"/>
            <p:cNvSpPr/>
            <p:nvPr/>
          </p:nvSpPr>
          <p:spPr>
            <a:xfrm>
              <a:off x="6519960" y="3216240"/>
              <a:ext cx="169560" cy="17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20"/>
            <p:cNvSpPr/>
            <p:nvPr/>
          </p:nvSpPr>
          <p:spPr>
            <a:xfrm>
              <a:off x="6507000" y="3200400"/>
              <a:ext cx="169560" cy="176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7" descr="E:\Паничева ОГРиПТ\2017\ГРАДОСТРОИТЕЛЬНАЯ КОМИССИЯ\2017\ОТКЛОНЕНИЕ ОТ ПРЕДЕЛЬНЫХ ПАРАМЕТРОВ\АБДУЛАЕВ_9_24\.....jpg"/>
          <p:cNvPicPr/>
          <p:nvPr/>
        </p:nvPicPr>
        <p:blipFill>
          <a:blip r:embed="rId2"/>
          <a:stretch/>
        </p:blipFill>
        <p:spPr>
          <a:xfrm>
            <a:off x="38160" y="380880"/>
            <a:ext cx="4381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Паничева ОГРиПТ\2017\ГРАДОСТРОИТЕЛЬНАЯ КОМИССИЯ\2017\ОТКЛОНЕНИЕ ОТ ПРЕДЕЛЬНЫХ ПАРАМЕТРОВ\АБДУЛАЕВ_9_24\план.jpg"/>
          <p:cNvPicPr/>
          <p:nvPr/>
        </p:nvPicPr>
        <p:blipFill>
          <a:blip r:embed="rId1"/>
          <a:stretch/>
        </p:blipFill>
        <p:spPr>
          <a:xfrm>
            <a:off x="0" y="366840"/>
            <a:ext cx="9124920" cy="6451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границ земельного участка с кадастровым номером 86:20:0000044: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я нежилого помещения с целью устройства входной группы по адресу: г.Нефтеюганск, микрорайон 9, дом 24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но-планировочное 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Паничева ОГРиПТ\2017\ГРАДОСТРОИТЕЛЬНАЯ КОМИССИЯ\2017\ОТКЛОНЕНИЕ ОТ ПРЕДЕЛЬНЫХ ПАРАМЕТРОВ\АБДУЛАЕВ_9_24\пойнт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E:\Паничева ОГРиПТ\2017\ГРАДОСТРОИТЕЛЬНАЯ КОМИССИЯ\2017\ОТКЛОНЕНИЕ ОТ ПРЕДЕЛЬНЫХ ПАРАМЕТРОВ\АБДУЛАЕВ_9_24\пойнт2.jpg"/>
          <p:cNvPicPr/>
          <p:nvPr/>
        </p:nvPicPr>
        <p:blipFill>
          <a:blip r:embed="rId2"/>
          <a:stretch/>
        </p:blipFill>
        <p:spPr>
          <a:xfrm>
            <a:off x="7162920" y="4952880"/>
            <a:ext cx="6048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оминых Алёна Валентиновна</dc:creator>
  <dc:description/>
  <dc:language>en-US</dc:language>
  <cp:lastModifiedBy>Stadnik</cp:lastModifiedBy>
  <dcterms:modified xsi:type="dcterms:W3CDTF">2017-08-24T06:17:23Z</dcterms:modified>
  <cp:revision>30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