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34D-0278-4BBB-B94F-B0A03CDC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B7ED-9621-40D8-9AC4-EB4904AA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A0C-7650-4758-9366-B49070E6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12E-34FD-47FC-B0D6-EC5D3E09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8201-35ED-4F12-9935-5DB0D0F2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68C9-93CB-4314-801F-5345C47D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A5EA-DDCA-4682-85F9-8F409B35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713F-130B-4215-9E0F-B29DE154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E659-3B66-4DEC-85D3-164E3363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58B9-375A-4EAC-A42F-42C49151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51CB-C0F4-448F-92B2-782F6658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B23-39C8-4A87-879E-FE12F76D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849E-E7B2-4016-861D-C9598BFE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53C5-80D9-410E-BE6C-1A37E6AD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8B55-61C1-4F3B-86E9-1E5C16DD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E6BB-E12F-4DFD-BA0D-1DEF63D1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3A0C-2800-4FEF-BB56-F764ABA1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4A19B-E941-422B-B6A1-339705FE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E52E-1263-4A31-B03A-8C2B9525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3E5EE-BCF1-4245-A4BB-76DE93DA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D137A-044B-4755-BEA4-94534412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65A49-FE69-46B3-A592-59318ABC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79F7-3AC2-4E12-AC4C-5449AD2B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F8DC4-5765-47CA-AA7A-B03DF1AC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FF8A1-5E06-42A0-A0AF-7986CF78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8B63-0C76-4A59-8FA6-C0CA6094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B1FE7-77DD-4074-B482-4AD00751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6CC57-1641-49C1-BF2D-92B7EBFB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DADA-C677-4BE8-9547-9BF37F8B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39D50-6F90-4F55-BBDD-63488A26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713CE-6E0D-4DDD-9ACA-733C5863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E12A6-3D06-4324-A7DF-1407F881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2AB7C-80C2-4851-A6B2-F39EEBAB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DB2-238A-4D57-9E0C-406B6D44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2B130-2617-496C-B76A-93F00352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E8849-B793-4082-9422-5D5BC09D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D01C-40B1-48AF-93FF-632A5753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DBE53-BA9B-40A9-9D06-281C9092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27C4A-6ED8-4699-8A69-E9D79262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15D3A-A6FD-43E1-A0B6-5BA09B80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C1AC5-8D03-41E0-9911-543A5067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B1C05-0793-4F4D-9571-CCD9AD490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AA71B-6D92-4B18-AC0F-6C94AF7D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D8D-EB9F-477E-97B0-173D7ADA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DE9-8114-485A-9099-0A5A27E3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2A21-FF8C-4B86-8F2F-4259003F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519-0B18-4392-858B-339621CA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81A-C6D2-451E-BC68-7D94A360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C769-6B02-4444-AE27-246112E4C649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E303-D213-4003-AD7A-FE1991BE8BF9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2155-8442-413A-B959-72B4B7331C1B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78D3-4A9A-4AFC-A32D-0AAB6CC92EBA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5" descr=""/>
          <p:cNvPicPr/>
          <p:nvPr/>
        </p:nvPicPr>
        <p:blipFill>
          <a:blip r:embed="rId1"/>
          <a:stretch/>
        </p:blipFill>
        <p:spPr>
          <a:xfrm>
            <a:off x="506520" y="738360"/>
            <a:ext cx="8057880" cy="2041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:\Program Files (x86)\Microsoft Office\MEDIA\CAGCAT10\j0291984.wmf"/>
          <p:cNvPicPr/>
          <p:nvPr/>
        </p:nvPicPr>
        <p:blipFill>
          <a:blip r:embed="rId2"/>
          <a:stretch/>
        </p:blipFill>
        <p:spPr>
          <a:xfrm>
            <a:off x="395280" y="407664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C:\Program Files (x86)\Microsoft Office\MEDIA\CAGCAT10\j0195812.wmf"/>
          <p:cNvPicPr/>
          <p:nvPr/>
        </p:nvPicPr>
        <p:blipFill>
          <a:blip r:embed="rId3"/>
          <a:stretch/>
        </p:blipFill>
        <p:spPr>
          <a:xfrm>
            <a:off x="7020000" y="4292640"/>
            <a:ext cx="1773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1403280" y="333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рмативные доку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539640" y="1125360"/>
            <a:ext cx="80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едеральный закон «О дополнительных гарантиях по социальной защите детей-сирот и  детей, оставшихся без попечения родителей» от 21.12.1996 № 159-ФЗ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ановление Министерства труда и социального развития Российской Федерации от 10.02.1998  № 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кон Российской Федерации «О занятости населения в Российской Федерации» от 19.04.1991 № 1032-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удовой кодекс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Прямоугольник 1" descr=""/>
          <p:cNvPicPr/>
          <p:nvPr/>
        </p:nvPicPr>
        <p:blipFill>
          <a:blip r:embed="rId1"/>
          <a:stretch/>
        </p:blipFill>
        <p:spPr>
          <a:xfrm>
            <a:off x="1670040" y="249120"/>
            <a:ext cx="5870520" cy="11034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324000" y="1700280"/>
            <a:ext cx="8820000" cy="33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1600" spc="-1" strike="noStrike">
                <a:solidFill>
                  <a:srgbClr val="92d050"/>
                </a:solidFill>
                <a:latin typeface="Tahoma"/>
              </a:rPr>
              <a:t>(статья 3 ФЗ «О дополнительных гарантиях»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конодательство РФ о дополнительных гарантиях по социальной поддержке детей-сирот и детей, оставшихся без попечения родителей, состоит из соответствующих статей Конституции РФ, настоящего Федерального закона, федеральных законов и иных нормативных правовых актов РФ, а также конституций (уставов), законов и иных нормативных правовых актов субъектов РФ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24000" y="3033360"/>
            <a:ext cx="8496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Constantia"/>
                <a:ea typeface="Times New Roman"/>
              </a:rPr>
              <a:t>(п.3 статьи 9 ФЗ «О дополнительных гарантиях»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остные лица, виновные в нарушении условий трудовых договоров (контрактов), регулирующих их отношения с гражданами из числа детей-сирот и детей, оставшихся без попечения родителей, несут ответственность в порядке, установленном законодательством РФ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324000" y="4221000"/>
            <a:ext cx="87120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2d050"/>
                </a:solidFill>
                <a:latin typeface="Tahoma"/>
              </a:rPr>
              <a:t>(п.6 статьи 9 ФЗ «О дополнительных гарантиях»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ботникам из числа детей-сирот, детей, оставшихся без попечения родителей, а также лицам из числа детей-сирот и детей, оставшихся без попечения родителей, высвобождаемых из организаций в связи с их ликвидацией, сокращением численности или штата, работодатели (их правопреемники) обязаны обеспечить за счет собственных средств необходимое профессиональное обучение с последующим их трудоустройством в данной или другой организации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611280" y="476280"/>
            <a:ext cx="7921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59aaf2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слуги Центра занятости для детей-сирот,</a:t>
            </a:r>
            <a:endParaRPr b="0" lang="en-US" sz="1800" spc="1" strike="noStrike">
              <a:ln w="0">
                <a:noFill/>
              </a:ln>
              <a:solidFill>
                <a:srgbClr val="59aaf2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59aaf2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59aaf2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тавшихся без попечения родителей </a:t>
            </a:r>
            <a:endParaRPr b="0" lang="en-US" sz="1800" spc="1" strike="noStrike">
              <a:ln w="0">
                <a:noFill/>
              </a:ln>
              <a:solidFill>
                <a:srgbClr val="59aaf2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08000" y="1628640"/>
            <a:ext cx="8628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сультирование по вопросам законодательства о занятости населения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удового законодательств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гистрация граждан, обратившихся в целях поиска подходящей работы, в т.ч. временно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оставление государственной услуги по информированию о положен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рынке труд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смотрение вопроса о признании безработным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бор вариантов подходящей работы, в т.ч.временно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ставление государственной услуги по  программе «Организация занятости безработных граждан, испытывающих трудности в поиске работ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 16 до 18 лет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оставление госуслуги по программе «Организация проведения оплачиваемых общественных работ»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оставление госуслуги по социальной адаптации безработного гражданина; по психологической поддержк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азание профориентационной услуги с учетом индивидуальных особенностей данной категор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удоустройство на квотированные рабочие мес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950760" y="20304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циальные выплат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76200" y="1355760"/>
            <a:ext cx="873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обие по безработице, в т.ч. в период временной нетрудоспособ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ипендия в период профессиональной подготовки, переподготовк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повышения квалификации по направлению центра занятости, в т.ч. в период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ременной нетрудоспособ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468360" y="333360"/>
            <a:ext cx="85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кументы, необходимые при обращен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Центр занят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79280" y="1916280"/>
            <a:ext cx="8805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явление о предоставлении государственной услуг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спорт гражданина РФ или документ, его заменяющ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кументы, удостоверяющие личность лица без гражданства ( для лиц без граждан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удовая книжка ( при наличи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кументы об образова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ка из Комитета по опеке и попечительств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68360" y="836640"/>
          <a:ext cx="8353440" cy="5441760"/>
        </p:xfrm>
        <a:graphic>
          <a:graphicData uri="http://schemas.openxmlformats.org/drawingml/2006/table">
            <a:tbl>
              <a:tblPr/>
              <a:tblGrid>
                <a:gridCol w="4829040"/>
                <a:gridCol w="352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дходящ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подходящ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 временного характера, которая соответствует профессиональной пригодности работника с учетом уровня его профессиональной подготовки, условиям последнего места работы ( за исключением оплачиваемых общественных работ), состоянию здоровья, транспортной доступности рабочего мес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ля граждан, впервые ищущих работу и при этом не имеющих профессии ( специальности) подходящей считается оплачиваемая работа, включая работу временного характера и общественные работы, требующие и не требующие ( с учетом возрастных и иных особенностей граждан) предварительной подготовки, отвечающей требованиям  трудового законодательства и иных нормативных правовых актов, содержащих нормы трудового пр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 считается неподходящей. Если она связана с переменой места жительства без согласия гражданина; условия труда не соответствуют правилам и нормам по охране тру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3T04:06:34Z</dcterms:created>
  <dc:creator>*</dc:creator>
  <dc:description/>
  <dc:language>en-US</dc:language>
  <cp:lastModifiedBy>Anohina</cp:lastModifiedBy>
  <dcterms:modified xsi:type="dcterms:W3CDTF">2017-09-05T05:56:42Z</dcterms:modified>
  <cp:revision>5</cp:revision>
  <dc:subject/>
  <dc:title>Слайд 1</dc:title>
</cp:coreProperties>
</file>